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3DC0-A1FF-4D52-BA95-2E4612FBD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B4E-12BD-4E35-A614-ED7415D8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1EF7-DC3C-4511-B3B8-D3113CB3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454-1BC3-4700-A34E-B3CB1F00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29B3-18CA-42D4-874C-AA616873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BE5-1398-4372-9F6C-587EF480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5B2-0763-4891-8551-B4696FD9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21F-C640-4DAB-946F-E7A18CF6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E16F-A68B-48C0-9FBF-5A461709B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C6E4-22FA-4C56-BDB0-E1B0439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B12E-E043-4FEC-BDBF-81A7E0D8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61D4-31D5-4356-8E88-113A6C2D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80A-CDDD-4C6E-90F4-D9C9CABBE3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abaoku.com/sucai/ziranlei/hf/web/6.htm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2514600"/>
            <a:ext cx="77724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  <a:ea typeface="方正魏碑简体"/>
              </a:rPr>
              <a:t>Important and difficult points in Unit 2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066680" y="12952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s there anything good on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255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3. I want to look at what’s on this week en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2057400"/>
            <a:ext cx="8686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用法灵活多变。上述两句构成词组“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”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表示“正在进行”或 “正在上演”。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是副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4419720"/>
            <a:ext cx="87631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情景变化时就要注意其意义了。例如：街拐角发生了交通事故，有人问：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on?”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相当于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’s happening”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或 “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hat has happened?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762120" y="114300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be on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后接表示组织的名词时，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转化为介词，可表示：“……中的一员” 或 “为……效力”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33526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our city tea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44197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I’m on China Dai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4. As soon as the reporters know what to write about,  they get down to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6002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记者们一旦知道所要报道的事件，就着手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25909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get down to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认真开始”，要注意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介词，后面接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名词、代词或  –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ng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形式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，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45720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While the weather is fine, I must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repairing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hous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Now let’s get down to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business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" y="2286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and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 a time for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a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ace-to-face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interview with the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15238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约定时间进行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面对面的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采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2666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( 1 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fix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是及物动词，意思是：决定，确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733920"/>
            <a:ext cx="67820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1). They’ve 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dat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or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er  sister’s wed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(2). She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 fixed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the price at 3 dolla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403848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371600" y="12193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-to-face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与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380880" y="2438280"/>
            <a:ext cx="99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80808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24382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-to-fa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64000"/>
            <a:ext cx="7696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hey are standing there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face to face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772400" y="2438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54380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5181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分析：有连字符的词组只能作定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439560"/>
            <a:ext cx="1752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辨 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22860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5. All the people who work on a newspaper must be able to work f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7524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imes New Roman"/>
              </a:rPr>
              <a:t>报社里所有工作人员都必须能够快速地进行工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2638440"/>
            <a:ext cx="89154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1" lang="zh-CN" sz="34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致力于”、“从事于” ，许多时候可以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互换使用。但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on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从事于（某工作或创作）”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,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而 </a:t>
            </a:r>
            <a:r>
              <a:rPr b="0" lang="zh-CN" sz="3400" spc="-1" strike="noStrike">
                <a:solidFill>
                  <a:srgbClr val="ff0000"/>
                </a:solidFill>
                <a:latin typeface="Times New Roman"/>
              </a:rPr>
              <a:t>work at 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表示“干（某事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)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或“研究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/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解决（难题）等”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.</a:t>
            </a:r>
            <a:r>
              <a:rPr b="0" lang="zh-CN" sz="34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5164200"/>
            <a:ext cx="8686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1). He is said to be working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on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a new nove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(2). He still works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at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s hi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80880" y="457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. They go to the newspaper’s own library to look up any information that they ne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75248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他们去报社的图书馆查找他们所需要的任何资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3352680"/>
            <a:ext cx="67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作“查处” “找出” 解，使用过程中同学们很容易出现错误。例如：试翻译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410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你如果不知道这个词的含义，可以去查字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685800" y="11430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cc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879480"/>
            <a:ext cx="807732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1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up the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( 2 ). If you don’t know the meaning of the world, you may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look it up the dictionary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001000" y="28195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14479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44197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Why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419112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Look up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是指词典或是参考书中查处单词或事实，它的宾语应该是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词或事实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，而不是单词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7.  Reporters are then sent to cover the even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685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然后派出记者去采访这些事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44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cover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新闻术语，作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采访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、“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报道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” 解。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ver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词义广泛，含义多变。请看下列句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781360"/>
            <a:ext cx="9144000" cy="41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. He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himself with a blank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. The villag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covered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by s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3. The city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twenty square mi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4. The dictionary does not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cover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ll the English wo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5. The horse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overs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twenty miles a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85800" y="83808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8. It is a daily newspaper, appearing from Monday to Saturday with a Sunday edition of Business Weekly each wee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39625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这是一份日报，每周星期一到星期六出版，星期天出《 商业周刊 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00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433680"/>
            <a:ext cx="9144000" cy="34243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990720" y="1447920"/>
            <a:ext cx="75438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 word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-4680" y="312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914400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1). …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appearing  from…each week.-ing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短语作定语，相当于一个非限制性定语从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which appear from….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243828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My birthday party,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sting about six hours,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ended this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733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(2).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weekly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周报，周刊，是名词，也可以作形容词，其他类似的词还有：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daily, monthly, y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574344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6094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t is also popular with students of Englis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22096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be popular with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表示“受到</a:t>
            </a: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的欢迎”。 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38862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ap (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说唱音乐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 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is very popular with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young peopl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2624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6.infor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inform sb. (of sth.) (abou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偶尔也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informed me of my mother’s com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inform sb +that clause/wh-cla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was informed when he would c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inform against/on s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告发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检举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揭发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I can’t believe. It’s he who inform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/against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-14400" y="640440"/>
            <a:ext cx="9158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7.relate vt/v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relate sth to sth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把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… 联系起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I can’t relate the money to his faul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relate to sb/sth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…有关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理解…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  相处地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The letter relates to the secret of his dea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can’t relate to his novel at a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he dosen’t relate very well to her mother-in-la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202680"/>
            <a:ext cx="91584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3)relate sth. to s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The child related (to us) the s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4)be relat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.g. A survey shows that he is related to the murder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7040" y="595800"/>
            <a:ext cx="8778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1.present vt.  adj. 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)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呈现，描述，表达，提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H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s love for peace in mus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report should have been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uch soo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. to sb./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b. with sth.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赠送，颁发，授予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(esp. at a formal or official occasion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David’s manager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him with the award for best sales last mon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42480"/>
            <a:ext cx="9144000" cy="68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sb to sb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引见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(to sb of higher rank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He had the honour of being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d to the Queen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4)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onself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出席，到场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I must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myself at 9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dj.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的，出席的→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bs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All students are present at the  meeting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eg. Linda was absent from school for illness yesterday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at present/at the present time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现在，此刻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for the present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暂时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20680" y="638640"/>
            <a:ext cx="8702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3.adap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使…适应…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sth to sth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neself to sth.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W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ittle cat to his new ho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I hav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myself to this new cla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se plants ar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to the hot clim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改写，改编，改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 book is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for beginn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We’ll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building to our special nee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520" y="250200"/>
            <a:ext cx="9123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4.fulfill v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执行，履行，满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The conditions of the contract must 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d exact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ment n.(u)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实现，履行，满足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After years, our plans have come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He gets a great sense of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rom succ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fulfilled ﹠ fulfill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4388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28.tolerate vt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容忍，忍耐，宽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You don’t need to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any teachers said they couldn’t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the long hours’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*n. tolerance   adj. tolerant *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eg. Luckily, my parents are tolerant of my choice of paint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40" y="45720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-452160" y="1828800"/>
            <a:ext cx="963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j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reliabl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dv.    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reliabilit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 the source of the information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4840" y="3505320"/>
            <a:ext cx="83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.  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rely on\rely upon sb.\sth.(to do sth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elied o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your coming ear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410080"/>
            <a:ext cx="623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with sb.\s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is can’t compare with tha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44360" y="692280"/>
            <a:ext cx="882036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Newspapers and other media do ___________ simply record what happ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报纸和其它媒体不仅仅是记录发生的事情而已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Experienced editors and reporters _____________________________ what events to re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经验丰富的编辑和记者根据自己了解的情况来决定报道什么事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ore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36576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informed decisions ab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50920" y="339840"/>
            <a:ext cx="889308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They agreed to switch role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be the interviewees ____________ interview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同意变换一下角色，做一次被采访者，而不是采访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The editor’s job is to </a:t>
            </a:r>
            <a:r>
              <a:rPr b="1" lang="zh-CN" sz="3200" spc="-1" strike="noStrike" u="sng">
                <a:solidFill>
                  <a:srgbClr val="ccccff"/>
                </a:solidFill>
                <a:uFillTx/>
                <a:latin typeface="Arial"/>
              </a:rPr>
              <a:t>___________________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nd interesting to the reade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编辑的工作是把报纸办得平衡协调，使读者感兴趣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9144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ther th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38401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ep the newspap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4495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alanc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738360"/>
            <a:ext cx="88203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.A reporter begins by contacting the people </a:t>
            </a:r>
            <a:r>
              <a:rPr b="1" lang="zh-CN" sz="3600" spc="-1" strike="noStrike" u="sng">
                <a:solidFill>
                  <a:srgbClr val="ccccff"/>
                </a:solidFill>
                <a:uFillTx/>
                <a:latin typeface="Arial"/>
              </a:rPr>
              <a:t>＿＿＿＿＿＿＿＿＿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nd then prepares ques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者开始联络被采访者，然后准备问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13716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be interview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" y="3276720"/>
            <a:ext cx="8064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The young woman tries to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＿＿＿＿＿＿＿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fter studying abroa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年轻女士试图适应留学回国后的新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0" y="3200400"/>
            <a:ext cx="2673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dapt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1960" y="3759120"/>
            <a:ext cx="28954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r new lif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14280"/>
            <a:ext cx="914400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I want to write about people who you seldom read about, for example people who have AIDS or wh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＿＿＿＿＿＿＿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想写关于你们在报纸上分手读到的文章，比如爱滋病患者或者毒品瘾君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We shouldn’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at happens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＿＿＿＿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 is difficult for people to accept some sto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人们难以接受某些报道，我们也不应该忽视所发生的事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8480" y="1371600"/>
            <a:ext cx="45720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re adapted to dru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352680" y="3429000"/>
            <a:ext cx="15242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gn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4038480"/>
            <a:ext cx="17524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ven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08000" y="387360"/>
            <a:ext cx="882000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９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media can often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and 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situations </a:t>
            </a:r>
            <a:r>
              <a:rPr b="1" lang="zh-CN" sz="3600" spc="-1" strike="noStrike" u="sng">
                <a:solidFill>
                  <a:srgbClr val="111111"/>
                </a:solidFill>
                <a:uFillTx/>
                <a:latin typeface="Arial"/>
              </a:rPr>
              <a:t>where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 help is need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媒体常常能够帮助解决问题，让大家关注需要帮助的境况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０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The result is a better understanding of the world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＿＿＿＿＿＿＿</a:t>
            </a: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11111"/>
                </a:solidFill>
                <a:latin typeface="Arial"/>
              </a:rPr>
              <a:t>结果是大家能够对世界的方方面面有更好的认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486400" y="533520"/>
            <a:ext cx="1600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80880"/>
            <a:ext cx="2666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elp sol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280" y="990720"/>
            <a:ext cx="25909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1066680"/>
            <a:ext cx="41148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draw attention 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4724280"/>
            <a:ext cx="35812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on all si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6160" y="333360"/>
            <a:ext cx="874692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More than ninety responsible and caring citizens ________________________to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今天有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90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多位富有爱心和责任心的公民发出了自己的呼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3200400"/>
            <a:ext cx="867564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１２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.A website ____________a newspaper. Both of them _______________selling 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</a:rPr>
              <a:t>网站和报纸是相似的，他们都是靠销售广告来赚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09680" y="838080"/>
            <a:ext cx="518184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de their voices he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00400"/>
            <a:ext cx="28195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similar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3809880"/>
            <a:ext cx="3581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ake money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420440" y="1159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24280" y="125280"/>
            <a:ext cx="464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为这件蓝色的衬衫怎么样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360" y="846000"/>
            <a:ext cx="72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 do you think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blue shir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72880" y="149400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宁愿选那件白色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5080" y="2070000"/>
            <a:ext cx="72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ould rather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the white o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7560" y="2644920"/>
            <a:ext cx="299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的看法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000" y="3149640"/>
            <a:ext cx="44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at’s your opinio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211920" y="386712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认为我们不应该买那辆二手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4470480"/>
            <a:ext cx="874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 don’t think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we should buy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the secondhand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37400" y="5451480"/>
            <a:ext cx="519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为什么你要选择自行车而不是地铁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36000" y="6027840"/>
            <a:ext cx="923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Why do you choose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bicycle,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instead of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sub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268160" y="110808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Useful Expres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15720" y="62064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也许说服他会更好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2720" y="1413000"/>
            <a:ext cx="84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ybe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t would be better to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persuade hi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65000" y="2492280"/>
            <a:ext cx="102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.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许健康要比金钱更重要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00" y="3429000"/>
            <a:ext cx="928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erhaps health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is more important tha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mone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066680" y="2783160"/>
            <a:ext cx="7620120" cy="26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Editors and reporters will discuss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events to report,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o report them and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wh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Editors will listen to reporters’ ideas and give sugg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33520" y="1231920"/>
            <a:ext cx="8076960" cy="1520280"/>
            <a:chOff x="533520" y="1231920"/>
            <a:chExt cx="8076960" cy="1520280"/>
          </a:xfrm>
        </p:grpSpPr>
        <p:sp>
          <p:nvSpPr>
            <p:cNvPr id="177" name=""/>
            <p:cNvSpPr/>
            <p:nvPr/>
          </p:nvSpPr>
          <p:spPr>
            <a:xfrm>
              <a:off x="609480" y="1231920"/>
              <a:ext cx="8001000" cy="152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2. How do reporters decide what they 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are going to write?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533520" y="1371600"/>
              <a:ext cx="609480" cy="573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3360"/>
            <a:ext cx="9144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ake sure that…; make sure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会采取一切措施确保您的访问愉快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will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take all the measures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tha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you enjoy your vis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应采取措施确保成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should take measures to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make sure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uccess/victo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40" y="0"/>
            <a:ext cx="256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89208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with 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相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boy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is answ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wit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the teacher’s and found he had made a mistak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compare A to B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比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he poe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compares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his lover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 to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 rose in his poem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0600" y="4568760"/>
            <a:ext cx="792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Food prices are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up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going down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bring down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lower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th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raise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prices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offer a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525780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602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agree to 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他同意提升价格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gre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bring up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he pri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们都同意马上出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e all agree to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set out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/start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right now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3336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relate to sb./sth.              relate A t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有些家长不十分理解孩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ome parents don’t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their childre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这篇文章谈到了很多社会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article </a:t>
            </a:r>
            <a:r>
              <a:rPr b="1" lang="zh-CN" sz="3200" spc="-1" strike="noStrike" u="sng">
                <a:solidFill>
                  <a:srgbClr val="cc0000"/>
                </a:solidFill>
                <a:uFillTx/>
                <a:latin typeface="Times New Roman"/>
              </a:rPr>
              <a:t>relates to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 many social problem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发现很难把真相和这个人联系起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found it difficult 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relat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truth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t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the per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even if/ thoug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尽管我已经卖了房子，我还要把我的事业继续下去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Even though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I have sold my house, I will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keep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my business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  <a:ea typeface="华文新魏"/>
              </a:rPr>
              <a:t>going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189000"/>
            <a:ext cx="891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. rather than = instead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想要冷饮，而不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will have a cold drink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nstead o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ffe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要帮助他学习艺术而不是劝说他放弃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am going to help him to learn art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rather tha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persuading him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give u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6. adapt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发现适应新生活并不容易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found it not easy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adapt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new lif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 flipV="1">
            <a:off x="946080" y="821880"/>
            <a:ext cx="8121600" cy="32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8360" y="765000"/>
            <a:ext cx="867564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7. With real pa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以极大的热情完成了这部电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 finished the film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with real pass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8. be addicted to + 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她的儿子十分沉迷于电脑游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Her son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is addicted 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computer gam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990720"/>
            <a:ext cx="91440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 Robert is said  _____  abroad, but I don’t know what country he studied in.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( 98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年广东题  </a:t>
            </a: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have studied         B. to study</a:t>
            </a:r>
            <a:br>
              <a:rPr sz="3600"/>
            </a:b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 to be studying          D. to have been stud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 I can hardly imagine Peter ____ across the Atlantic Ocean in five days. (  91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题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sail   B. to sail    C. sailing    D. to have sail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-57240" y="304920"/>
            <a:ext cx="4341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高考试题精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990720"/>
            <a:ext cx="73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0760" y="4006800"/>
            <a:ext cx="92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304920"/>
            <a:ext cx="91440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 ---Let me tell you something about the journalis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Don’t you remember _____ me the story yesterday.  ( 99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年上海题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ld    B. telling     C. to tell    D. to have to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029200" y="160020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0600" y="76320"/>
            <a:ext cx="316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.There’s a good film ___ the cinema. Would you like to g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on        B. at        C. at on          D. on 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.The book is said ____ into several other languages alrea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translate              B. to be translated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have translated   D. to have been transl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1120" y="685800"/>
            <a:ext cx="51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3920" y="3733920"/>
            <a:ext cx="10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320" y="12060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过关训练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990720"/>
            <a:ext cx="830556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3.Would you like___ there by yourself or would you like me ____ with you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go; to go                  B. going; go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go going                 D.going;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4.---What about ___ a film this evening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see      B. seeing       C. see       D. s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907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33920" y="3962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152280"/>
            <a:ext cx="9144000" cy="66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5. Could you tell me_____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what to do it next     B. how to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what to do next        D. how I should do nex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6.The young people got down ___ trees, as soon as they arrived the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plant                      B. to planting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plant                         D. plan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62520" y="152280"/>
            <a:ext cx="140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15000" y="3733920"/>
            <a:ext cx="84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320" y="457200"/>
            <a:ext cx="898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v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交换位置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转换改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Our glasses have been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this is mine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Many voters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ed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o Labou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4280" y="2819520"/>
            <a:ext cx="425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f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\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switch 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8920" y="4038480"/>
            <a:ext cx="466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i="1" lang="zh-CN" sz="3600" spc="-1" strike="noStrike">
                <a:solidFill>
                  <a:srgbClr val="000000"/>
                </a:solidFill>
                <a:latin typeface="Times New Roman"/>
              </a:rPr>
              <a:t> n.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开关、电门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urn on the light </a:t>
            </a:r>
            <a:r>
              <a:rPr b="0" i="1" lang="zh-CN" sz="3600" spc="-1" strike="noStrike">
                <a:solidFill>
                  <a:srgbClr val="3333cc"/>
                </a:solidFill>
                <a:latin typeface="Times New Roman"/>
              </a:rPr>
              <a:t>switch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228600"/>
            <a:ext cx="9144000" cy="723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7.Please____ the spelling of the word in your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look for                B. look afte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look up                D. look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8.Reporters from all parts of the world came to ___ the big ev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watch    B. remember     C. enjoy     D. c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28800" y="3049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920" y="380880"/>
            <a:ext cx="883908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9.It was the ___ invitation and it had just arrived from the US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ast         B. late        C. latest         D. l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0.All the people who _____ the project tried their be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worked on                  B. did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wrote at                    D. made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743200" y="380880"/>
            <a:ext cx="6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76920" y="342900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9144000" cy="70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1.It’s no use ___ a  lot  without doing anyth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to talk                            B. talk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talk about                  D. talking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2.She reached the top of the hill and stopped ____ on a big rock by the side of the roa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rest    B. resting     C. to rest    D. from res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3. Mr.Wang is popular ____ her neighbou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to   B. for    from   D.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743200" y="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2120" y="304812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5410080"/>
            <a:ext cx="94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401760"/>
            <a:ext cx="8458200" cy="62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4.—Do you  ___   to the cinema?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That sounds like a good id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feel like going               B. feel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feel going                      D. feel like to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5._____ new words and useful expressions ___ very useful to 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Learning; is                 B. Learning ar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Learn ; is                   D. Learn; 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449000" y="4038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04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401760"/>
            <a:ext cx="8915400" cy="50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6.---Would you like to go to the Slee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  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eauty Castle tomorr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 ______. But I can’t tomorrow.  _______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No; Shall we make it some oth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Yes; What time shall we st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I’d love to; Will you g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 I wish I could; What about some other ti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1752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38088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7.It took me a long time but I just didn’t know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how to write about      B. what to write ab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write about             D. to write about w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18.The most important international news is usually _____ the front pag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 in        B. on         C. at         D.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62120" y="9907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72428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228600"/>
            <a:ext cx="8763120" cy="72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19.The journalist telephoned the very important man and ____ time ___ a face-to-face intervie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settled a ; for             B. fixed a ; for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fixed; for                  D. fixed a ;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0.After he had collected enough information, he got down to ___ the repo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write   B. written   C. writing   D. be wri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7621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81280" y="5181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28600" y="152280"/>
            <a:ext cx="876312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1.His article _____ yesterday’s newspap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80808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wrote on                   B. appeared i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written on                D. was appeare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2.This magazine is ____ most of the young peop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popular with                   B. popular for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C. published with               D. welcomed w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23.______ up early is a very good habi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imes New Roman"/>
              </a:rPr>
              <a:t>A. Get       B. Got        C. Gets       D. Get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8120" y="7632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666880"/>
            <a:ext cx="49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5562720"/>
            <a:ext cx="81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52280" y="144360"/>
            <a:ext cx="8915400" cy="68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4.His wife advised him to stop _____, but he wouldn’t list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smoke               B. to smoke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smoked            D. smo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25.---What’s____ the cinema this even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---I’ve got no idea, but there’s ___ , I think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A.on at; nothing latest new on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B. on at; nothing new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C. to be in;nothing new showing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808080"/>
                </a:solidFill>
                <a:latin typeface="Times New Roman"/>
              </a:rPr>
              <a:t>D.to be shown; new something lat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08640" y="763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97180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04920" y="495360"/>
            <a:ext cx="90676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Homework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二战期间，很多国家遭受重大损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他十分沉迷于解决数学问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应尽快适应新变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尽管我采访过很多名人，这个普通女孩是最可爱的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执行计划，而不是改变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们要采取措施确保你的安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读者们不太了解这篇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幼圆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幼圆"/>
                <a:ea typeface="幼圆"/>
              </a:rPr>
              <a:t>我答应在班中举行一场辩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-27000"/>
            <a:ext cx="9144000" cy="61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relate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…有联系或关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for once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就这一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be addicted to,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…上瘾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on all sid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各方面，到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.nine out of ten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十分之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.keep the newspaper balanc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报纸保持均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.in an organized way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条理地，有组织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8.adapt to a new lif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适应新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9.draw attention to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注意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.look up to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尊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981080" y="1219320"/>
            <a:ext cx="56390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Times New Roman"/>
              </a:rPr>
              <a:t>Thank you and Goodbye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115920"/>
            <a:ext cx="8569080" cy="65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1.fall in love wi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爱上，喜欢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2.more than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仅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极为，非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3.current affai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4.change one’s min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改变主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5.people to be interview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采访的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6.burn dow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烧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7.be fired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被解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8.face difficulties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面临困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9.inform sb st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告知某人某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.even if / even though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使，尽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1.rob sb /a place of sth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某人某地抢走某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2.without effor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不费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457200" y="-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1. They are said to b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56386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hey are said to have visit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4419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It is said tha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y have visited a lot of count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3200400"/>
            <a:ext cx="2743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77820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2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sb ﹢be +said + to do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3048120"/>
            <a:ext cx="48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(1).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It is said that 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7524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｛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16002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据说……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,  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听说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25432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常用以下结构表示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914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ople say  they are very g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8380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imes New Roman"/>
              </a:rPr>
              <a:t>据说他们很棒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4100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The bus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start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in ten minut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73392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he train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leaves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at 7 o’clock tomorrow morn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44792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本句话用一般现在时表示将来的时间，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一般将来时表示时间表上已经确定好或安排好的事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4572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2. What ti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does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the correct star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13:35:42Z</dcterms:created>
  <dc:creator>jinma</dc:creator>
  <dc:description/>
  <dc:language>en-US</dc:language>
  <cp:lastModifiedBy>jinma</cp:lastModifiedBy>
  <dcterms:modified xsi:type="dcterms:W3CDTF">2005-11-06T15:28:21Z</dcterms:modified>
  <cp:revision>9</cp:revision>
  <dc:subject/>
  <dc:title>PowerPoint 演示文稿</dc:title>
</cp:coreProperties>
</file>